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8FA-EE9D-4669-BCD0-C34CEF86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FD3-8DDE-430B-AB31-A3BB5E75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B21-4C62-4DBE-9A33-7A809BCA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1A5-6E1E-416B-BEB6-EE8AC937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A3CB-B563-47DD-B058-DAF9717B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2B00-7FB0-441D-8B67-601987F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913B-7E70-4F7E-868F-F801A1C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4D8-A257-4862-84D0-277BFECC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2F51-4CC6-4452-A9E6-B2A8C8D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F801-B810-402B-924D-57BB4360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3064-B655-4D11-96E8-A4621E2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171-F41E-4DFC-9713-5ADDFEC5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B31-F1DC-46EF-907C-DF264FF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FFE-FE42-4D81-8080-7D6F86A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62DF-35A3-43C1-B270-99A8EDB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1E7-7B11-4675-888A-4CF1838E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45A6-CAD0-4A53-8A8F-C873C594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7088-89C1-45A0-B92D-B3930DD7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6294-1835-4E54-AB02-5E7BD447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B2A8-D3DD-44F0-9E9F-029C763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37B4-CD10-4F27-BB06-B781F1D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4C5C-1144-40FE-9966-9A5293E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FDC-8753-4AE6-86B3-86E69C06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5336-D36F-42DA-8051-1BE56203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38ED-A06C-414D-92BB-8CEEE98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92CC-BBC5-4661-AB41-9FBC1F7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1A9B-8998-4B7E-A0D2-7C4250A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BA8D-D4F8-457F-AD73-73EB4F4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0A1D-E2DE-4614-B309-6D9F08F2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7B7F-375A-41BC-81F5-4BBB605F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EC20-6676-4108-B0E3-4D8CB23C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B05A-267B-474B-A63A-18420DD4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6498-4391-4D86-A915-AF4F0194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9D6-A46C-44F0-B1F8-2AD053F8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747E-D927-44A8-AF9D-5AD7A398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C501-674B-450A-AFF1-16D358E6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81F4C-D93F-475D-AF03-907D6BF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55A0-3280-48DF-A613-35DF5FF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E430-A0A9-49D0-8453-2E1DD31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C32C-6EC1-4C1F-8AFB-B957A8F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A976-43EE-4589-ADBA-A96C4C1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077C-C942-4FB4-B74D-6C5E0125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37C0-3A31-46FA-92C9-6FFDD44A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CC2-2D7B-4C4B-813B-D70ACE5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2F4-B52A-4092-AE77-86B36F1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22E-D3CA-4918-9F3B-E5FDFB9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CD9-F2DF-4A7C-9C2D-E8A4618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65C-8C04-4755-954C-CF4204BD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51C5-CE60-4400-8931-811402C523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2393-54D8-469B-994C-564ADC0F16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32F-3D2C-4492-A580-1C45742BBF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0470-C719-4596-BC58-118BE2A0E5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55640" y="66600"/>
            <a:ext cx="818676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vone Nune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HJRACAKRICPLCAR8T2PLCA75SOP4CARW9X6RCAWW8J9QCAFXUMI9CAFNZ2F3CA8DD2D5CAQZ9ZEDCAP3HER2CAQTI0ERCAUHNC7RCAMG826OCAGF1X4UCANF4B9UCAGILR37CA27MAWFCA8OCJ6SCACQV9YY.jpg"/>
          <p:cNvPicPr/>
          <p:nvPr/>
        </p:nvPicPr>
        <p:blipFill>
          <a:blip r:embed="rId2"/>
          <a:stretch/>
        </p:blipFill>
        <p:spPr>
          <a:xfrm>
            <a:off x="3124080" y="2819520"/>
            <a:ext cx="3424320" cy="3233520"/>
          </a:xfrm>
          <a:prstGeom prst="rect">
            <a:avLst/>
          </a:prstGeom>
          <a:ln w="0">
            <a:noFill/>
          </a:ln>
        </p:spPr>
      </p:pic>
      <p:pic>
        <p:nvPicPr>
          <p:cNvPr id="198" name="Recorded Sound" descr=""/>
          <p:cNvPicPr/>
          <p:nvPr/>
        </p:nvPicPr>
        <p:blipFill>
          <a:blip r:embed="rId3"/>
          <a:stretch/>
        </p:blipFill>
        <p:spPr>
          <a:xfrm>
            <a:off x="-53352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有两只猪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4648320" y="21337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238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2"/>
          <a:stretch/>
        </p:blipFill>
        <p:spPr>
          <a:xfrm>
            <a:off x="2209680" y="205740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19520" y="54100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two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orded Sound" descr=""/>
          <p:cNvPicPr/>
          <p:nvPr/>
        </p:nvPicPr>
        <p:blipFill>
          <a:blip r:embed="rId3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uit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8800" y="4952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Fruit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Content Placeholder 7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30481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Recorded Sound" descr=""/>
          <p:cNvPicPr/>
          <p:nvPr/>
        </p:nvPicPr>
        <p:blipFill>
          <a:blip r:embed="rId2"/>
          <a:stretch/>
        </p:blipFill>
        <p:spPr>
          <a:xfrm>
            <a:off x="-53352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还有五只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1371600" y="220968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2"/>
          <a:stretch/>
        </p:blipFill>
        <p:spPr>
          <a:xfrm>
            <a:off x="2666880" y="23623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3"/>
          <a:stretch/>
        </p:blipFill>
        <p:spPr>
          <a:xfrm>
            <a:off x="3962520" y="251460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9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4"/>
          <a:stretch/>
        </p:blipFill>
        <p:spPr>
          <a:xfrm>
            <a:off x="5638680" y="25909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5"/>
          <a:stretch/>
        </p:blipFill>
        <p:spPr>
          <a:xfrm>
            <a:off x="7010280" y="2590920"/>
            <a:ext cx="962280" cy="12859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1752480" y="4876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five chic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orded Sound" descr=""/>
          <p:cNvPicPr/>
          <p:nvPr/>
        </p:nvPicPr>
        <p:blipFill>
          <a:blip r:embed="rId6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Krispies, Puffs, Cocoa, Flakes </a:t>
            </a: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rost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3733920" y="1981080"/>
            <a:ext cx="1342800" cy="1795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1905120" y="46483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Krispies, Puffs, Cocoa, Flakes and Fro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Recorded Sound" descr=""/>
          <p:cNvPicPr/>
          <p:nvPr/>
        </p:nvPicPr>
        <p:blipFill>
          <a:blip r:embed="rId2"/>
          <a:stretch/>
        </p:blipFill>
        <p:spPr>
          <a:xfrm>
            <a:off x="-60948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000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一只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nchil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3505320" y="2743200"/>
            <a:ext cx="1652400" cy="1652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438280" y="5334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orded Sound" descr=""/>
          <p:cNvPicPr/>
          <p:nvPr/>
        </p:nvPicPr>
        <p:blipFill>
          <a:blip r:embed="rId2"/>
          <a:stretch/>
        </p:blipFill>
        <p:spPr>
          <a:xfrm>
            <a:off x="-60948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cial 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438280" y="56386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name was Special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Content Placeholder 5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2819520" y="23781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64" name="Recorded Sound" descr=""/>
          <p:cNvPicPr/>
          <p:nvPr/>
        </p:nvPicPr>
        <p:blipFill>
          <a:blip r:embed="rId2"/>
          <a:stretch/>
        </p:blipFill>
        <p:spPr>
          <a:xfrm>
            <a:off x="-60948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们在农庄都快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Content Placeholder 7" descr="7RVYCA069NAJCABEMY5FCAUFL000CA2PQUIOCAH4HXY6CA6ZAJEJCAC2NMV0CA1U2UQ1CA4AH16VCAWMUOBRCA9P6PMTCAILASIGCAPGPDGJCAZZ7P68CACBW2DOCADP38T3CAXJ3FOMCA2QG5BLCA8NZWS1.jpg"/>
          <p:cNvPicPr/>
          <p:nvPr/>
        </p:nvPicPr>
        <p:blipFill>
          <a:blip r:embed="rId1"/>
          <a:stretch/>
        </p:blipFill>
        <p:spPr>
          <a:xfrm>
            <a:off x="1828800" y="1806480"/>
            <a:ext cx="4876920" cy="34894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220968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l happy in the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orded Sound" descr=""/>
          <p:cNvPicPr/>
          <p:nvPr/>
        </p:nvPicPr>
        <p:blipFill>
          <a:blip r:embed="rId2"/>
          <a:stretch/>
        </p:blipFill>
        <p:spPr>
          <a:xfrm>
            <a:off x="-5335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直到有一天，马醒来时大叫了一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Content Placeholder 3" descr="52.jpg"/>
          <p:cNvPicPr/>
          <p:nvPr/>
        </p:nvPicPr>
        <p:blipFill>
          <a:blip r:embed="rId1"/>
          <a:stretch/>
        </p:blipFill>
        <p:spPr>
          <a:xfrm>
            <a:off x="3124080" y="2666880"/>
            <a:ext cx="2686320" cy="1522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905120" y="5257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one day, the horse wakes up sc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orded Sound" descr=""/>
          <p:cNvPicPr/>
          <p:nvPr/>
        </p:nvPicPr>
        <p:blipFill>
          <a:blip r:embed="rId2"/>
          <a:stretch/>
        </p:blipFill>
        <p:spPr>
          <a:xfrm>
            <a:off x="-60948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00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说绿色的怪物回来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Content Placeholder 3" descr="VR7OCAXGEOOACA7PEPFPCAKHCVE3CAYKK1L3CAETKD35CAKE7EU2CAISR7FMCAJY8X8BCA4EDQXJCARCY22RCAN3GWT3CA1K0V2DCAOBR58DCADGQABYCA6NRPTBCAOLXL3YCAP2GH8LCAKNHJW0CAQBB60Q.jpg"/>
          <p:cNvPicPr/>
          <p:nvPr/>
        </p:nvPicPr>
        <p:blipFill>
          <a:blip r:embed="rId1"/>
          <a:stretch/>
        </p:blipFill>
        <p:spPr>
          <a:xfrm>
            <a:off x="2895480" y="2590920"/>
            <a:ext cx="2854440" cy="2043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90512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that the Green Monster was b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orded Sound" descr=""/>
          <p:cNvPicPr/>
          <p:nvPr/>
        </p:nvPicPr>
        <p:blipFill>
          <a:blip r:embed="rId2"/>
          <a:stretch/>
        </p:blipFill>
        <p:spPr>
          <a:xfrm>
            <a:off x="-60948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Content Placeholder 3" descr="H8X4CAB05SWZCA9PMDSGCADHOYJKCA02BIBHCA7527BHCAM5UNA1CAQIT5FYCAZWGMIKCA0KV2OGCA4JRA7VCA017YQKCAKWRKOHCAZONXXXCAEXSMDKCAKSBH54CA5SX041CA1RXAMUCA0TIZY5CAZ8DFHO.jpg"/>
          <p:cNvPicPr/>
          <p:nvPr/>
        </p:nvPicPr>
        <p:blipFill>
          <a:blip r:embed="rId1"/>
          <a:stretch/>
        </p:blipFill>
        <p:spPr>
          <a:xfrm>
            <a:off x="3200400" y="2276640"/>
            <a:ext cx="1805040" cy="2439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1828800" y="5715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orded Sound" descr=""/>
          <p:cNvPicPr/>
          <p:nvPr/>
        </p:nvPicPr>
        <p:blipFill>
          <a:blip r:embed="rId2"/>
          <a:stretch/>
        </p:blipFill>
        <p:spPr>
          <a:xfrm>
            <a:off x="-60948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有一个小男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YLV2CAW10Q9DCA6GYNGXCA0NKNSDCA4E7QXECAZRI23WCA48Y4IECA95IRT3CA2TTL9WCAVBBZUVCAV5WQH5CASQ0EXECAUSJA1RCAB5FZVGCAFEBTNPCAT3A7ASCA83WWUKCAHG2T4SCAD5E62RCAQE79MI.jpg"/>
          <p:cNvPicPr/>
          <p:nvPr/>
        </p:nvPicPr>
        <p:blipFill>
          <a:blip r:embed="rId1"/>
          <a:stretch/>
        </p:blipFill>
        <p:spPr>
          <a:xfrm>
            <a:off x="3657600" y="1828800"/>
            <a:ext cx="1447920" cy="2543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600200" y="52578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littl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6858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一天，他们聚到一起把他吓走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Content Placeholder 3" descr="X878CAZXDJR6CAR9RWBACAEM9VB3CA0TM0C7CAZWGVIMCAE3EP6WCAVA50ICCAPEL96YCAWEAOX0CARMGNWGCABGKI5RCAD873WTCA1XBK8ACAP2RUFDCAOGO2XNCAH2VLFACAO7RPN6CA0SI9CHCA11WPQX.jpg"/>
          <p:cNvPicPr/>
          <p:nvPr/>
        </p:nvPicPr>
        <p:blipFill>
          <a:blip r:embed="rId1"/>
          <a:stretch/>
        </p:blipFill>
        <p:spPr>
          <a:xfrm>
            <a:off x="2341440" y="2133720"/>
            <a:ext cx="2826000" cy="2192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1219320" y="5334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ay, they all got together and                               scared him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Recorded Sound" descr=""/>
          <p:cNvPicPr/>
          <p:nvPr/>
        </p:nvPicPr>
        <p:blipFill>
          <a:blip r:embed="rId2"/>
          <a:stretch/>
        </p:blipFill>
        <p:spPr>
          <a:xfrm>
            <a:off x="-4572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在也没回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never came 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3" descr="M6RTCA4AVUCRCAG6T98VCAVW19KXCAUCNL85CAP4QDNECAMMPCSYCAWCMPQ9CAZRLUZDCAHXZ1NNCAGC0J3WCADEL51BCA4CMWKDCAJJO3ERCASUPF9MCAPYCSJQCA0VE1NLCAD3U22VCAT0TX9LCA1XJ80D.jpg"/>
          <p:cNvPicPr/>
          <p:nvPr/>
        </p:nvPicPr>
        <p:blipFill>
          <a:blip r:embed="rId1"/>
          <a:stretch/>
        </p:blipFill>
        <p:spPr>
          <a:xfrm>
            <a:off x="2743200" y="2286000"/>
            <a:ext cx="3200400" cy="3176640"/>
          </a:xfrm>
          <a:prstGeom prst="rect">
            <a:avLst/>
          </a:prstGeom>
          <a:ln w="0">
            <a:noFill/>
          </a:ln>
        </p:spPr>
      </p:pic>
      <p:pic>
        <p:nvPicPr>
          <p:cNvPr id="288" name="Recorded Sound" descr=""/>
          <p:cNvPicPr/>
          <p:nvPr/>
        </p:nvPicPr>
        <p:blipFill>
          <a:blip r:embed="rId2"/>
          <a:stretch/>
        </p:blipFill>
        <p:spPr>
          <a:xfrm>
            <a:off x="-60948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ple Jac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M2HCCAEK1O54CAOWGDU8CA312VPOCA28IT7UCAJW3T9OCAT1MVFCCAFF1HJLCAQRPI6YCA4UKJLFCARNV9U1CANUWVWXCAB5NVE2CAXC02U3CAAM02PYCAOC7SJKCARSCR25CATZ0QP0CAHR3KL5CAZIX6FM.jpg"/>
          <p:cNvPicPr/>
          <p:nvPr/>
        </p:nvPicPr>
        <p:blipFill>
          <a:blip r:embed="rId1"/>
          <a:stretch/>
        </p:blipFill>
        <p:spPr>
          <a:xfrm>
            <a:off x="3429000" y="2590920"/>
            <a:ext cx="2465280" cy="217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2286000" y="5486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Apple J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2"/>
          <a:stretch/>
        </p:blipFill>
        <p:spPr>
          <a:xfrm>
            <a:off x="-4572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妈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m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images.jpg"/>
          <p:cNvPicPr/>
          <p:nvPr/>
        </p:nvPicPr>
        <p:blipFill>
          <a:blip r:embed="rId1"/>
          <a:stretch/>
        </p:blipFill>
        <p:spPr>
          <a:xfrm>
            <a:off x="3124080" y="1905120"/>
            <a:ext cx="2482920" cy="211428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1"/>
          <p:cNvSpPr/>
          <p:nvPr/>
        </p:nvSpPr>
        <p:spPr>
          <a:xfrm>
            <a:off x="3124080" y="1981080"/>
            <a:ext cx="25909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"/>
          <p:cNvSpPr/>
          <p:nvPr/>
        </p:nvSpPr>
        <p:spPr>
          <a:xfrm flipH="1">
            <a:off x="3200400" y="2057400"/>
            <a:ext cx="22860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orded Sound" descr=""/>
          <p:cNvPicPr/>
          <p:nvPr/>
        </p:nvPicPr>
        <p:blipFill>
          <a:blip r:embed="rId2"/>
          <a:stretch/>
        </p:blipFill>
        <p:spPr>
          <a:xfrm>
            <a:off x="-60948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爸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VH1ACANBVS77CAM8TCRLCAMXNRCYCA6FIFSWCA4BTAW4CAB6ZZJNCAGQKYRXCAKO039NCATG2UUACAW06H0YCAUNPEUACAX600AOCAUT4ZWXCAG2KWTCCARDC1VUCAK4L7J5CAKNDR4DCASY7LBECALY61BM.jpg"/>
          <p:cNvPicPr/>
          <p:nvPr/>
        </p:nvPicPr>
        <p:blipFill>
          <a:blip r:embed="rId1"/>
          <a:stretch/>
        </p:blipFill>
        <p:spPr>
          <a:xfrm>
            <a:off x="3200400" y="2133720"/>
            <a:ext cx="2227320" cy="2133360"/>
          </a:xfrm>
          <a:prstGeom prst="rect">
            <a:avLst/>
          </a:prstGeom>
          <a:ln w="0">
            <a:noFill/>
          </a:ln>
        </p:spPr>
      </p:pic>
      <p:sp>
        <p:nvSpPr>
          <p:cNvPr id="217" name="Straight Connector 7"/>
          <p:cNvSpPr/>
          <p:nvPr/>
        </p:nvSpPr>
        <p:spPr>
          <a:xfrm>
            <a:off x="3353760" y="2287440"/>
            <a:ext cx="1827000" cy="190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>
            <a:off x="3352320" y="2209680"/>
            <a:ext cx="175284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Recorded Sound" descr=""/>
          <p:cNvPicPr/>
          <p:nvPr/>
        </p:nvPicPr>
        <p:blipFill>
          <a:blip r:embed="rId2"/>
          <a:stretch/>
        </p:blipFill>
        <p:spPr>
          <a:xfrm>
            <a:off x="-60948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很寂寞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was lon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YGLPCA22O2RRCAIL8LA6CA1EONGGCASMQLWKCA7D08X0CAXFAJJICAO0LUCPCARO68TECAP2D0X3CANWH2PYCAMZ6HU7CAGZSORSCADRB6IZCAV5C1MHCAKHZ347CA4JANX0CAI6K773CAP94YH4CA0E5AGK.jpg"/>
          <p:cNvPicPr/>
          <p:nvPr/>
        </p:nvPicPr>
        <p:blipFill>
          <a:blip r:embed="rId1"/>
          <a:stretch/>
        </p:blipFill>
        <p:spPr>
          <a:xfrm>
            <a:off x="3429000" y="2133720"/>
            <a:ext cx="1976400" cy="189864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2"/>
          <a:stretch/>
        </p:blipFill>
        <p:spPr>
          <a:xfrm>
            <a:off x="-60948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住在一个农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3" descr="IVAMCACJ1AA4CATC3YLLCAQ1LR3UCA76LSXHCAG169K6CAMHNOD5CAJXA5SICA5P5W4FCAAAMSZ7CA9I9WRPCAV8BUB1CA2K0L6VCAIOHHCICA28U0NACA5EK9K2CAC31AZNCAFFFBW1CA1Y64MACA63F43D.jpg"/>
          <p:cNvPicPr/>
          <p:nvPr/>
        </p:nvPicPr>
        <p:blipFill>
          <a:blip r:embed="rId1"/>
          <a:stretch/>
        </p:blipFill>
        <p:spPr>
          <a:xfrm>
            <a:off x="283680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295280" y="5486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ived in a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农庄里有马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64.jpg"/>
          <p:cNvPicPr/>
          <p:nvPr/>
        </p:nvPicPr>
        <p:blipFill>
          <a:blip r:embed="rId1"/>
          <a:stretch/>
        </p:blipFill>
        <p:spPr>
          <a:xfrm>
            <a:off x="3048120" y="2362320"/>
            <a:ext cx="2138400" cy="20494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981080" y="533412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arm there was a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orded Sound" descr=""/>
          <p:cNvPicPr/>
          <p:nvPr/>
        </p:nvPicPr>
        <p:blipFill>
          <a:blip r:embed="rId2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ptain Cr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Content Placeholder 3" descr="37.jpg"/>
          <p:cNvPicPr/>
          <p:nvPr/>
        </p:nvPicPr>
        <p:blipFill>
          <a:blip r:embed="rId1"/>
          <a:stretch/>
        </p:blipFill>
        <p:spPr>
          <a:xfrm>
            <a:off x="3505320" y="2057400"/>
            <a:ext cx="2033640" cy="2033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se’s name was Capitan Cr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corded Sound" descr=""/>
          <p:cNvPicPr/>
          <p:nvPr/>
        </p:nvPicPr>
        <p:blipFill>
          <a:blip r:embed="rId2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4:10:54Z</dcterms:created>
  <dc:creator>itsuser</dc:creator>
  <dc:description/>
  <dc:language>en-US</dc:language>
  <cp:lastModifiedBy>itsuser</cp:lastModifiedBy>
  <dcterms:modified xsi:type="dcterms:W3CDTF">2009-04-02T16:15:49Z</dcterms:modified>
  <cp:revision>39</cp:revision>
  <dc:subject/>
  <dc:title>Slide 1</dc:title>
</cp:coreProperties>
</file>